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7C8-DAD0-45D0-AE3E-E829710D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98C-F22E-4A56-AD18-11244FD4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F0B-318F-44EF-B391-000321C9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587-23BC-4D06-ABBE-8EACA67B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9F6-81D9-476F-A0ED-3803B961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3BB-9D9E-4C36-B7BE-C163CFFC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27F-3347-4408-9233-910A7BA3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D33-0DD0-4FFF-A564-BC26641D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995-0CD2-4C01-843D-79799F74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352-706A-40BC-9DF9-7978335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033-308E-45AB-BC58-6A08D6BD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3F9-4B36-4EC0-AE5A-1B50DDFF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0BF2-4CF5-42A8-8827-1B9E975B9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Nicene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, the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er of heaven and ea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all that is, seen and un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only Son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ly begotte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from God, Light from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rue God from tru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gotten, not ma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one Being with the Fathe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him all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re m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us and for our sal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came down from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incarnate of the Holy Spirit and the Virgin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became truly hu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our sake he was cruc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der Pontius Pil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suffered d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accord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Scriptur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will come again in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is kingdom will have no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ord, the giver of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proceeds from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ith the Father and the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s worshipped and glor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proph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holy 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postolic Chur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cknowledge one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forgiveness of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ook for the resurr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of the world to come.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9 of 9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07:06Z</dcterms:created>
  <dc:creator>Anon Anon</dc:creator>
  <dc:description/>
  <dc:language>en-US</dc:language>
  <cp:lastModifiedBy>Anon Anon</cp:lastModifiedBy>
  <dcterms:modified xsi:type="dcterms:W3CDTF">2005-08-16T04:24:38Z</dcterms:modified>
  <cp:revision>26</cp:revision>
  <dc:subject/>
  <dc:title>Nicene Creed</dc:title>
</cp:coreProperties>
</file>